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FA13-B74B-4445-A770-9BBF3B172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3F42-8633-4EEF-BCDF-88B6353D5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C965-4ED9-45A0-A565-128DDBCC8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04E7-18A9-4D30-9A05-CD74D456A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3ECF1-F765-438B-9754-D8C58D5B6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B9562-E753-4747-A187-DB2582940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70DBF-8BD0-4AD2-A584-A8DF65BE3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27177-EFB5-459E-A247-0BFFC82E2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DA199-08DB-40C4-9076-572DE1629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766E2-934E-4B1B-B526-B1BAD10D4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D69BE-70D1-4A47-978F-6BAACF44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60B0-0AB8-4E3D-8B24-E328C89AA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C5AB6-B80E-4A3B-8F19-F45750A6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DE9F6-536F-4013-8E16-9CE1F823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F707D-8511-4682-B5B5-B46315779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7DAF7-9241-4982-B1AC-5F0E5D6E8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81710-2C48-4B21-A3EA-24982703B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1751-80C8-4433-AC37-169F0F5A2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4F56-77E8-41F0-A7ED-77D04603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6CE4-4B87-4285-9EB0-9560D16F6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92E8-38B7-40A0-BEF5-6490E7CAE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F594-62B5-4991-A4D9-7F01156C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8900-0655-4136-BE2D-57C2CDA4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5567-25AF-4450-8813-BA88CDFA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6C781-8E3F-4402-BB6A-FA1A3634989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D1AD7-305F-4772-91D6-08B12772CA3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1085760" y="396720"/>
            <a:ext cx="7783560" cy="1505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50560" y="1916280"/>
            <a:ext cx="85690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«Схематический рисунок как средство закрепления знаний на занятиях у детей старшего дошкольного возраста»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(на примере образовательной области «Безопасность»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nstanti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 Фефилова О.В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ший воспитатель СП «Детский сад №66»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Карпогорская СОШ № 118»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1" descr="DSC_0008.JPG"/>
          <p:cNvPicPr/>
          <p:nvPr/>
        </p:nvPicPr>
        <p:blipFill>
          <a:blip r:embed="rId1"/>
          <a:stretch/>
        </p:blipFill>
        <p:spPr>
          <a:xfrm>
            <a:off x="179280" y="836640"/>
            <a:ext cx="882036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1" descr="DSC_0009.JPG"/>
          <p:cNvPicPr/>
          <p:nvPr/>
        </p:nvPicPr>
        <p:blipFill>
          <a:blip r:embed="rId1"/>
          <a:stretch/>
        </p:blipFill>
        <p:spPr>
          <a:xfrm>
            <a:off x="179280" y="907920"/>
            <a:ext cx="8748720" cy="58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1" descr="DSC_0010.JPG"/>
          <p:cNvPicPr/>
          <p:nvPr/>
        </p:nvPicPr>
        <p:blipFill>
          <a:blip r:embed="rId1"/>
          <a:stretch/>
        </p:blipFill>
        <p:spPr>
          <a:xfrm>
            <a:off x="250920" y="907920"/>
            <a:ext cx="8642160" cy="57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9280" y="1267920"/>
            <a:ext cx="7704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9" name="Диаграмма 4" descr=""/>
          <p:cNvPicPr/>
          <p:nvPr/>
        </p:nvPicPr>
        <p:blipFill>
          <a:blip r:embed="rId1"/>
          <a:stretch/>
        </p:blipFill>
        <p:spPr>
          <a:xfrm>
            <a:off x="1523880" y="1397160"/>
            <a:ext cx="6096240" cy="4063680"/>
          </a:xfrm>
          <a:prstGeom prst="rect">
            <a:avLst/>
          </a:prstGeom>
          <a:ln w="0">
            <a:noFill/>
          </a:ln>
        </p:spPr>
      </p:pic>
      <p:sp>
        <p:nvSpPr>
          <p:cNvPr id="120" name="TextBox 5"/>
          <p:cNvSpPr/>
          <p:nvPr/>
        </p:nvSpPr>
        <p:spPr>
          <a:xfrm>
            <a:off x="1692360" y="404640"/>
            <a:ext cx="597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Распределение детей по уровням воспроизведения знаний полученных на занятии в 1 и 2 части эксперимента (ЭГ – группа Б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Вывод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Результаты второй части эксперимента свидетельствуют о том, что схематический рисунок можно применять на занятиях как средство закрепления знаний у детей старшего дошкольного возраста при следующих условиях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- обучения детей фиксировать информацию в схематическом рисунке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- упражнения детей в применении схематического рисунка для закрепления и воспроизведения знаний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- включения схематического рисунка в заключительную часть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занятия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Схематический рисунок является достаточно эффективным средством закрепления знаний детей на занятиях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Итоговый этап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Выступление на педсовете по обмену опытом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«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Использование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схематического  рисунка для  закрепления знаний на занятиях у детей старшего дошкольного возраста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Доклад   на научно – практической конференции в С(А)ФУ г. Северодвинск с темой «Схематический рисунок как средство закрепления знаний на занятиях у детей старшего дошкольного возраста (на примере образовательной области «Безопасность»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Заголовок 1" descr=""/>
          <p:cNvPicPr/>
          <p:nvPr/>
        </p:nvPicPr>
        <p:blipFill>
          <a:blip r:embed="rId1"/>
          <a:stretch/>
        </p:blipFill>
        <p:spPr>
          <a:xfrm>
            <a:off x="450720" y="1981080"/>
            <a:ext cx="832176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1360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АКТУАЛЬНОСТЬ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24000" y="1341000"/>
            <a:ext cx="8640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Актуальность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выбранной темы определяется тем, что  на данный момент использование схематического рисунка изучалось как средство запоминания в лабораторных условиях и в работе по коррекции памяти, но не изучалось  как средство закрепления знаний на занятиях.  Обучение детей фиксировать предметы с помощью схематического рисунка  облегчит и ускорит процесс запоминания и усвоение материала. Применяя схематический рисунок, дети научатся  планировать высказывани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ЦЕЛЬ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1916280"/>
            <a:ext cx="81360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изучение возможностей использования схематического рисунка как средства закрепления знаний на занятиях у детей  старшего дошкольного возраста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ЗАДАЧИ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психолого – педагогическую литературу по данной тем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ыявить особенности  применения педагогами ДОУ средств закрепления знаний на занятиях при освоении образовательной области «Безопасность»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азработать и апробировать методику обучения детей старшего дошкольного возраста  использованию схематического рисунка как средства закрепления знаний на занятиях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оверить эффективность использования схематического рисунка как средства закрепления знаний детей старшего дошкольного возраста на занятиях при освоении образовательной области «Безопасность»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42472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ЭТАПЫ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РАБОТЫ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9280" y="907920"/>
            <a:ext cx="820908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о подготовительный этап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сещение библиотек, педагогических сайтов в интернете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дбор и изучение научно – методической литературы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накомство с работами других педагогов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ий этап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выявление особенностей и оценка эффективности применения педагогами ДОУ средств закрепления знаний детей на занятиях при освоении образовательной области «Безопасность»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.  - разработка и апробация методики обучения детей старшего дошкольного возраста  использованию схематического рисунка как средства закрепления знаний на занятиях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 проверка эффективности использования схематического рисунка как средства закрепления знаний детей старшего дошкольного возраста на занятиях при освоении образовательной области «Безопасность»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оговый этап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ступление на педсовете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оклад на научно – практической конференции в С(А)ФУ г. Северодвинск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актический этап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50560" y="1196640"/>
            <a:ext cx="87138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Задачи 1 части этапа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Изучить  и проанализировать опыт работы педагогов ДОУ по использованию средств закрепления знаний на занятиях на примере образовательной области «Безопасность»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Оценить эффективность применения  педагогами средств закрепления знаний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актический этап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Задачи 2 части этап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Разработать и апробировать методику применения схематического рисунка с целью закрепления знаний детей, включающую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) обучение детей фиксировать информацию в схематическом рисунк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) упражнение детей в применении схематического рисунка для закрепления и воспроизведения знани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) включение схематического рисунка в заключительную часть занятия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5"/>
          <p:cNvSpPr/>
          <p:nvPr/>
        </p:nvSpPr>
        <p:spPr>
          <a:xfrm>
            <a:off x="468360" y="1557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11" name="Содержимое 7" descr=""/>
          <p:cNvPicPr/>
          <p:nvPr/>
        </p:nvPicPr>
        <p:blipFill>
          <a:blip r:embed="rId1"/>
          <a:stretch/>
        </p:blipFill>
        <p:spPr>
          <a:xfrm>
            <a:off x="457200" y="1935000"/>
            <a:ext cx="8229600" cy="438948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8"/>
          <p:cNvSpPr/>
          <p:nvPr/>
        </p:nvSpPr>
        <p:spPr>
          <a:xfrm>
            <a:off x="900000" y="83664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Уровни</a:t>
            </a: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воспроизведения знаний полученных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на заняти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1" descr="DSC_0007.JPG"/>
          <p:cNvPicPr/>
          <p:nvPr/>
        </p:nvPicPr>
        <p:blipFill>
          <a:blip r:embed="rId1"/>
          <a:stretch/>
        </p:blipFill>
        <p:spPr>
          <a:xfrm>
            <a:off x="179280" y="836640"/>
            <a:ext cx="882036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7T08:04:26Z</dcterms:created>
  <dc:creator>михаил</dc:creator>
  <dc:description/>
  <dc:language>en-US</dc:language>
  <cp:lastModifiedBy>Учитель</cp:lastModifiedBy>
  <dcterms:modified xsi:type="dcterms:W3CDTF">2014-04-15T05:27:51Z</dcterms:modified>
  <cp:revision>46</cp:revision>
  <dc:subject/>
  <dc:title>ТЕМА</dc:title>
</cp:coreProperties>
</file>